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FA3E-035C-41A2-8B9A-63FC6892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DBE2-134A-4E15-AB4B-ECD173D2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EE1F-5D30-49AD-9EA0-19A1FA5B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F18D-51A7-42B3-A41A-EAF1A1A4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447C-73C9-4051-BEDA-2224D1FC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7F39-5BD2-4FA2-823B-94D031E4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7AF0-8ED3-42B0-8D9C-A3216726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4393-EF3E-476E-9E57-5D20FB9B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6263-2EEA-450D-932F-3E33920B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C5DD-DB05-4B1C-B2BE-9D3ECF7E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F515-1096-4766-8EE2-366421D7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56BE-5DB1-4B9A-BE68-60BF57A6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E766-C168-4A71-A78E-CB9F5604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A571-6A0F-480B-A010-5B0CC19D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C4A7-79F2-4BCE-84E3-51B1CD8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4C38-D0B7-45F9-BDB5-28F206C8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6ECC-DA47-442D-A623-21955E90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B1DC-FC0A-40D8-9D94-FDE07CDA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B4FD-2BA0-4AF0-8E56-670544B5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18B8-1ACC-4D3E-9AE9-D1A24E6D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419C-C475-428F-9A9E-6E7455BB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B1A5-1B32-4944-BB5E-3283FB38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8DBE-3294-4027-AAAA-39B54C8E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0CF0-0E28-4205-8F92-5E3858AF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326B-9F45-4EB9-9BEA-9EAA477341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F8B7-5371-45D8-8386-942A4BE3AD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37: The Cold War Begin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45-195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ited States &amp; Soviet Un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 didn’t recognize Bolshevik government until 193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 skeptical to open up second front against Germany (Soviet Union paid price to get Nazis out of Russia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 froze Soviets out of development of atomic bom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ited States &amp; Soviet Un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 visions of post-war worl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lin wanted to maintain extensive Soviet sphere of influence in Eastern &amp; Central Euro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ashes w/ US idea of “open world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 &amp; USSR resembled each 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olated from world affairs prior to WW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litical doctrines w/ revolutionary origi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iance of necessity until mutual enemy crus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ic America vs. Communist Rus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nse standoff resul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ping Postwar World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ld Bank &amp; International Monetary Fu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ted Nations Confere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DR sent both Republicans &amp; Democra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ablished Security Council &amp; Assemb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whelmingly approved by Sen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lot of initial suc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57800" y="4438800"/>
            <a:ext cx="24192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blem of Germa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uremberg War Crimes Tri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nished Nazi leaders for war cri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usations: crimes against laws of war &amp; huma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 of accused Nazis were sent to gallo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 sentenced to long-term jail terms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ies disagreed on what to do w/ German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352680" y="4811760"/>
            <a:ext cx="26672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blem of Germa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rmany divided into two occupation z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st Germany: controlled by Western democra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st Germany: controlled by communist Rus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ron Curtain”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ivided Europe into east &amp; west; secrecy of Stalin in Eastern Eur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rlin- symbolized issues between US &amp; USS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erlin Blockade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USSR blocked western access to Berl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erlin Airlift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US flew in supplies to west Berl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91280" y="0"/>
            <a:ext cx="2952720" cy="2809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505320" y="0"/>
            <a:ext cx="2954160" cy="3581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438280" y="2941560"/>
            <a:ext cx="48769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ystallizing the Cold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ntainment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 the spread of communism abro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ussia was relentlessly expansionar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ruman Doctrine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tated that US would support Greece &amp; Turkey w/ economic &amp; military aid to prevent their falling to commun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arshall Plan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 gave monetary support to help European economies after WWI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vent spread of communism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man recognizes state of Israel, 194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99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erica Begins to Rear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ational Security Ac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1947- created Department of Defense, National Security Council &amp; 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gress resurrected military d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orth Atlantic Treaty Organization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94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itain, France, Belgium, United St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mised to regard an attack on one as attack on a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parture from US conven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p for militarization of Cold W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uropean unific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apa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nstruction in Japan was simp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cupying American army under Douglas MacArthu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 Japanese “war criminals” were hung or sent to pris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panese cooperated w/ Americ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opted MacArthur-dictated constit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nounced militar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estern-style democra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enomenal economic reco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war Economic Anxieti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ft-Hartley Ac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mployment Act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ade it government policy to “promote maximum employment, production and purchasing power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I Bill of Rights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ka GI Bil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ar that economy couldn’t support 15 million men returning from w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ous provisions for sending soldiers to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- (Veterans Administration) guaranteed loans for veterans to buy homes, farms &amp; small business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819920" y="2057400"/>
            <a:ext cx="1324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olution in As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ivil war in China: nationalists vs. commun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sts victorio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eat for America in Cold War- 500 million people in China swept into communist cam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rms rac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49- USSR explodes atomic bom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uman orders development of the “H-Bomb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rtly after, USSR exploders their h-bomb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clear superiority becomes go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side tries to outdo other w/ building destructive weap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934320" y="3836880"/>
            <a:ext cx="22096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leged Communist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47- Truman launches “loyalty program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deral employees’ loyalty investig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49- 11 communists brought before jury for violating the Smith Act of 194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 peacetime antisedition law since 179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victed of advocating the overthrow of US government by 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pheld by Supreme Court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ennis v. United St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466040" y="0"/>
            <a:ext cx="1677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leged Commu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mmittee on Un-American Activ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HUAC)- investigated subver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chard Nixon and Joseph McCarth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ger Hi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” hunt turned into witch hu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man vetoed McCarran Internal Security Bill (authorized president to arrest &amp; detain suspicious people); passed anyway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lius &amp; Ethel Rosenberg- only people ever executed in peacetime for espionag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82880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28800" y="3592440"/>
            <a:ext cx="6172200" cy="2979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2733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94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s had control of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: Thomas E. Dew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: Harry Tru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position by southern Democrats, split party (civil rights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xiecrats” nominated J. Strom Thurmo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Progressive party: Henry A. Wall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man wi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rmers, workers, black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81480" y="4537080"/>
            <a:ext cx="28195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uman’s First 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oint Four Program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end U.S. money &amp; aid to underdeveloped lands to help them help themsel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air Deal Program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mproved housing, full employment, higher minimum wage, extension of Social Secu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ed some opposi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orean War Begi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195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ter WWII, Korea divided at 3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aralle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: south of 3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rall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SR: north of 3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ralle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rth Korean army breached 3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arallel, drove South Korea backw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ainment doctrine- communist aggre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d to expansion of US military, beyond what was necessary for Ko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SC-68: major step in militarization of US foreign poli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99320" cy="63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orean War Beg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ted Nations Security Council declares North Korea as an aggress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 called on US to restore pe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man (w/o consulting congress) sent US air &amp; naval units to support South Ko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dered MacArthur’s troops in Japan to Ko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19112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conomic Boom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economy sur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ericans (6% of world’s people) enjoying 40% of world’s w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American consumerism (By 1950s, 90% of Americans owned TV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loyment opportunities for women r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traditional feminine roles glorifi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1940 - Philco 5in TV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orean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cArthur launched amphibious landing behind enemy lines w/ suc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rth Korea had scrambled back behind 3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ralle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man’s avowed intention: restore South Korea to its former bor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uth Koreans had already crossed 3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ralle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st China warned that they would not sit idly as hostile groups approached Chinese/Korean bord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orean War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nese attacked &amp; pushed forces ba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lemate @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lle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Arthur favored an attack on Chi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urope (not Asia) was US first conc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Arthur removed from command: April 11, 195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505320" y="4417920"/>
            <a:ext cx="29908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war Prospe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itary budg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ap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kers increased productiv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0% of country’s youth in school by 197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ift out of agri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ductivity gains unmatched by any other sect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y farm fades away, giant agribusiness r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chanization &amp; new fertiliz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nbel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tion redistrib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nbelt=15 state area from Virginia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rida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X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ifor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ed pop. at a rate double of industrial zones in Northea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bs, better climate, lower tax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ke historic grip of the North on the nation’s political lif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ush to the Suburb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fled to subur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economically attractive to own a home in suburbs than to rent apt. in 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out of 4 Americans lived on subur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vitt Brothers- “Levittow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te fligh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62720" y="3983040"/>
            <a:ext cx="35812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by Boo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 in birth rate after 194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million babies by the end of 1950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n effect on econom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mentary school enroll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ned food &amp; baby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enagers: clothes &amp; rock music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um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idental presiden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president in many yrs. without college deg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mility turned into cocki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ly loyal to his frien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94440" y="2819520"/>
            <a:ext cx="30495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alta Confer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bruary 194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g Th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 re-establishment of war-torn Eur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land should have representative govern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lgaria &amp; Romania to have free el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ited Natio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lin agrees to attack Japan within 3 months after collapse of German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File:Yalta summit 1945 with Churchill, Roosevelt, Stalin.jpg"/>
          <p:cNvPicPr/>
          <p:nvPr/>
        </p:nvPicPr>
        <p:blipFill>
          <a:blip r:embed="rId1"/>
          <a:stretch/>
        </p:blipFill>
        <p:spPr>
          <a:xfrm>
            <a:off x="6629400" y="826920"/>
            <a:ext cx="2514600" cy="20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8:57:52Z</dcterms:created>
  <dc:creator>emily.johnson</dc:creator>
  <dc:description/>
  <dc:language>en-US</dc:language>
  <cp:lastModifiedBy>emily.johnson</cp:lastModifiedBy>
  <dcterms:modified xsi:type="dcterms:W3CDTF">2013-04-09T17:18:32Z</dcterms:modified>
  <cp:revision>10</cp:revision>
  <dc:subject/>
  <dc:title>Chapter 37: The Cold War Begins </dc:title>
</cp:coreProperties>
</file>